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13D-A4F5-4A4D-ABD2-70B406FA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B6A-86CC-4009-95AC-3A905A9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737-8F3E-4317-8EFE-3306C880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A45-B4E4-499C-A2B2-23904411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AE11-52FA-46A6-99A8-E8B83704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CF61-4F31-4571-945F-90BC035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8FB-B7DD-4DF8-A0F5-590E8141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C730-4561-45B4-A8E6-4D06A91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7B89-674E-48B9-B73D-6121624D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7A23-B508-45B2-9B60-537FDFB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E2EF-E6C0-4CF9-B399-798D145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258-AFBD-42BB-A367-721BEEF7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7055-F963-46A2-A982-D0A9976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D591-2C8A-4CBE-9EF1-07C9256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3C99-0425-426C-BAB6-552DE80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5FE-1A23-4BDA-A4C6-3C1D475E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4C00-B815-4AD9-8F12-3A678A1A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159-B1A9-4C56-915D-9776EED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4EE-80A9-465F-87DC-D8544D3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4D1-9FB7-45A1-B64C-EB0CA7F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A5A-EF67-43C3-8AC0-E56A030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1F4-9D07-45FD-80B5-75A4CBF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E9A-97D6-4EC6-8999-E4D4CAF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948-42A4-4F7A-B27D-6819DBF1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9909-AF24-4997-A455-129D632343E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B6E-3480-42D8-9545-542CD7AD64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1932"/>
                </a:solidFill>
                <a:latin typeface="Impact"/>
              </a:rPr>
              <a:t>Plantão Psicológico Escola</a:t>
            </a:r>
            <a:r>
              <a:rPr b="0" lang="pt-BR" sz="2800" spc="-1" strike="noStrike">
                <a:solidFill>
                  <a:srgbClr val="001932"/>
                </a:solidFill>
                <a:latin typeface="Impact"/>
              </a:rPr>
              <a:t>- 17/08 a 11/12/98 </a:t>
            </a:r>
            <a:br>
              <a:rPr sz="2800"/>
            </a:b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Tabela Geral -</a:t>
            </a:r>
            <a:r>
              <a:rPr b="0" lang="pt-BR" sz="4000" spc="-1" strike="noStrike">
                <a:solidFill>
                  <a:srgbClr val="001932"/>
                </a:solidFill>
                <a:latin typeface="Impact"/>
              </a:rPr>
              <a:t> </a:t>
            </a: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atendimentos e pessoas       </a:t>
            </a:r>
            <a:r>
              <a:rPr b="0" lang="pt-BR" sz="1200" spc="-1" strike="noStrike">
                <a:solidFill>
                  <a:srgbClr val="001932"/>
                </a:solidFill>
                <a:latin typeface="Tahoma"/>
              </a:rPr>
              <a:t>148</a:t>
            </a:r>
            <a:endParaRPr b="0" lang="en-US" sz="12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057400"/>
          <a:ext cx="762624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626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B88-CB1F-4212-B41D-B26FD945C7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1932"/>
                </a:solidFill>
                <a:latin typeface="Impact"/>
              </a:rPr>
              <a:t>Plantão Psicológico Escola</a:t>
            </a:r>
            <a:r>
              <a:rPr b="0" lang="pt-BR" sz="2800" spc="-1" strike="noStrike">
                <a:solidFill>
                  <a:srgbClr val="001932"/>
                </a:solidFill>
                <a:latin typeface="Impact"/>
              </a:rPr>
              <a:t> 17/08 a 11/12/98</a:t>
            </a:r>
            <a:br>
              <a:rPr sz="3600"/>
            </a:br>
            <a:r>
              <a:rPr b="0" lang="pt-BR" sz="3600" spc="-1" strike="noStrike">
                <a:solidFill>
                  <a:srgbClr val="001932"/>
                </a:solidFill>
                <a:latin typeface="Impact"/>
              </a:rPr>
              <a:t>Tabela Geral</a:t>
            </a:r>
            <a:r>
              <a:rPr b="0" lang="pt-BR" sz="4000" spc="-1" strike="noStrike">
                <a:solidFill>
                  <a:srgbClr val="001932"/>
                </a:solidFill>
                <a:latin typeface="Impact"/>
              </a:rPr>
              <a:t> </a:t>
            </a: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(turno e sexo)</a:t>
            </a: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	</a:t>
            </a: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	</a:t>
            </a:r>
            <a:r>
              <a:rPr b="0" lang="pt-BR" sz="3200" spc="-1" strike="noStrike">
                <a:solidFill>
                  <a:srgbClr val="001932"/>
                </a:solidFill>
                <a:latin typeface="Impact"/>
              </a:rPr>
              <a:t>       </a:t>
            </a:r>
            <a:r>
              <a:rPr b="0" lang="pt-BR" sz="1400" spc="-1" strike="noStrike">
                <a:solidFill>
                  <a:srgbClr val="001932"/>
                </a:solidFill>
                <a:latin typeface="Tahoma"/>
              </a:rPr>
              <a:t>149</a:t>
            </a:r>
            <a:endParaRPr b="0" lang="en-US" sz="1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71600" y="1981080"/>
          <a:ext cx="73087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308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F21-7456-4CA0-BCF7-0754FE0B9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3:43:41Z</dcterms:created>
  <dc:creator>Rodrigo Tassinari de Oliveira</dc:creator>
  <dc:description/>
  <dc:language>en-US</dc:language>
  <cp:lastModifiedBy>Rodrigo Tassinari de Oliveira</cp:lastModifiedBy>
  <cp:lastPrinted>1999-11-08T10:42:10Z</cp:lastPrinted>
  <dcterms:modified xsi:type="dcterms:W3CDTF">1999-11-08T10:56:43Z</dcterms:modified>
  <cp:revision>9</cp:revision>
  <dc:subject/>
  <dc:title>Tabela Geral - 17/08 a 11/12/98</dc:title>
</cp:coreProperties>
</file>